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D72-0C47-47DF-A828-71CDAEF7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471-F7A2-4DDC-875C-07BB292F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8FC-D2D7-4EE3-92BC-8526D7A0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5F6-BE8F-4CF3-A178-C743BC9C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388-1442-4EB2-8EB1-3E09C33D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C70-1EF4-4B92-A5A3-ECD3BDDB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D2E1-12BE-4C32-853D-123C83B0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8A19-C85C-44D8-9726-64FD06F3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C26-3A81-48E8-A417-B399DA75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AD3-0E4F-48F3-AAE5-F7FDC83E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3BA-629E-4E5A-99CF-A48EE1CA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AC6-1740-4C5E-B2A2-7771CFEA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9731-81CA-4467-A42A-E7580E622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981080" y="91440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inya Nouvelle"/>
              </a:rPr>
              <a:t>Quiet on the Set</a:t>
            </a:r>
            <a:endParaRPr b="0" lang="en-US" sz="1800" spc="1" strike="noStrike">
              <a:ln w="4140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inya Nouvelle"/>
              <a:ea typeface="Minya Nouvelle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523880" y="52578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Bethel Elementary / 2011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4"/>
          <p:cNvSpPr/>
          <p:nvPr/>
        </p:nvSpPr>
        <p:spPr>
          <a:xfrm>
            <a:off x="1981080" y="2209680"/>
            <a:ext cx="4953240" cy="3022560"/>
          </a:xfrm>
          <a:prstGeom prst="flowChartProcess">
            <a:avLst/>
          </a:prstGeom>
          <a:solidFill>
            <a:srgbClr val="ffffff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2514600" y="2133720"/>
            <a:ext cx="403848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Media Center Ru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8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46" name="Rectangle 21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2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3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4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5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26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27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29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54" name="Rectangle 30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31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32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33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4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5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36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AutoShape 37"/>
          <p:cNvSpPr/>
          <p:nvPr/>
        </p:nvSpPr>
        <p:spPr>
          <a:xfrm>
            <a:off x="7162920" y="914400"/>
            <a:ext cx="1752480" cy="1665360"/>
          </a:xfrm>
          <a:custGeom>
            <a:avLst/>
            <a:gdLst/>
            <a:ahLst/>
            <a:rect l="l" t="t" r="r" b="b"/>
            <a:pathLst>
              <a:path w="1752600" h="1665288">
                <a:moveTo>
                  <a:pt x="2" y="636082"/>
                </a:moveTo>
                <a:lnTo>
                  <a:pt x="669437" y="636086"/>
                </a:lnTo>
                <a:lnTo>
                  <a:pt x="876300" y="0"/>
                </a:lnTo>
                <a:lnTo>
                  <a:pt x="1083163" y="636086"/>
                </a:lnTo>
                <a:lnTo>
                  <a:pt x="1752598" y="636082"/>
                </a:lnTo>
                <a:lnTo>
                  <a:pt x="1211011" y="1029200"/>
                </a:lnTo>
                <a:lnTo>
                  <a:pt x="1417882" y="1665284"/>
                </a:lnTo>
                <a:lnTo>
                  <a:pt x="876300" y="1272158"/>
                </a:lnTo>
                <a:lnTo>
                  <a:pt x="334718" y="1665284"/>
                </a:lnTo>
                <a:lnTo>
                  <a:pt x="541589" y="1029200"/>
                </a:lnTo>
                <a:lnTo>
                  <a:pt x="2" y="636082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8"/>
          <p:cNvSpPr/>
          <p:nvPr/>
        </p:nvSpPr>
        <p:spPr>
          <a:xfrm>
            <a:off x="152280" y="914400"/>
            <a:ext cx="1752840" cy="1665360"/>
          </a:xfrm>
          <a:custGeom>
            <a:avLst/>
            <a:gdLst/>
            <a:ahLst/>
            <a:rect l="l" t="t" r="r" b="b"/>
            <a:pathLst>
              <a:path w="1752600" h="1665288">
                <a:moveTo>
                  <a:pt x="2" y="636082"/>
                </a:moveTo>
                <a:lnTo>
                  <a:pt x="669437" y="636086"/>
                </a:lnTo>
                <a:lnTo>
                  <a:pt x="876300" y="0"/>
                </a:lnTo>
                <a:lnTo>
                  <a:pt x="1083163" y="636086"/>
                </a:lnTo>
                <a:lnTo>
                  <a:pt x="1752598" y="636082"/>
                </a:lnTo>
                <a:lnTo>
                  <a:pt x="1211011" y="1029200"/>
                </a:lnTo>
                <a:lnTo>
                  <a:pt x="1417882" y="1665284"/>
                </a:lnTo>
                <a:lnTo>
                  <a:pt x="876300" y="1272158"/>
                </a:lnTo>
                <a:lnTo>
                  <a:pt x="334718" y="1665284"/>
                </a:lnTo>
                <a:lnTo>
                  <a:pt x="541589" y="1029200"/>
                </a:lnTo>
                <a:lnTo>
                  <a:pt x="2" y="636082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1"/>
          <p:cNvGrpSpPr/>
          <p:nvPr/>
        </p:nvGrpSpPr>
        <p:grpSpPr>
          <a:xfrm>
            <a:off x="-356040" y="2305080"/>
            <a:ext cx="3303000" cy="3285720"/>
            <a:chOff x="-356040" y="2305080"/>
            <a:chExt cx="3303000" cy="3285720"/>
          </a:xfrm>
        </p:grpSpPr>
        <p:pic>
          <p:nvPicPr>
            <p:cNvPr id="64" name="Picture 39" descr="MCEN00973_0000[1]"/>
            <p:cNvPicPr/>
            <p:nvPr/>
          </p:nvPicPr>
          <p:blipFill>
            <a:blip r:embed="rId1"/>
            <a:stretch/>
          </p:blipFill>
          <p:spPr>
            <a:xfrm rot="20418000">
              <a:off x="0" y="2666520"/>
              <a:ext cx="2590920" cy="25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40"/>
            <p:cNvSpPr txBox="1"/>
            <p:nvPr/>
          </p:nvSpPr>
          <p:spPr>
            <a:xfrm rot="20357400">
              <a:off x="607680" y="4266720"/>
              <a:ext cx="2128680" cy="75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cc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STAR </a:t>
              </a:r>
              <a:endPara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cc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STUDENTS</a:t>
              </a:r>
              <a:endPara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66" name="Picture 42" descr="MCj02346050000[1]"/>
          <p:cNvPicPr/>
          <p:nvPr/>
        </p:nvPicPr>
        <p:blipFill>
          <a:blip r:embed="rId2"/>
          <a:stretch/>
        </p:blipFill>
        <p:spPr>
          <a:xfrm>
            <a:off x="7162920" y="2895480"/>
            <a:ext cx="179208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233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241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WordArt 19"/>
          <p:cNvSpPr txBox="1"/>
          <p:nvPr/>
        </p:nvSpPr>
        <p:spPr>
          <a:xfrm>
            <a:off x="2743200" y="1066680"/>
            <a:ext cx="5791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2nd Tim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380880" y="327672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inya Nouvelle"/>
              </a:rPr>
              <a:t>Think Tim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3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5" descr="hw8_boy13"/>
          <p:cNvPicPr/>
          <p:nvPr/>
        </p:nvPicPr>
        <p:blipFill>
          <a:blip r:embed="rId1"/>
          <a:stretch/>
        </p:blipFill>
        <p:spPr>
          <a:xfrm>
            <a:off x="304920" y="457200"/>
            <a:ext cx="1495440" cy="215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253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261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WordArt 23"/>
          <p:cNvSpPr txBox="1"/>
          <p:nvPr/>
        </p:nvSpPr>
        <p:spPr>
          <a:xfrm>
            <a:off x="2666880" y="609480"/>
            <a:ext cx="5943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3rd Tim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269" name="Text Box 24"/>
          <p:cNvSpPr/>
          <p:nvPr/>
        </p:nvSpPr>
        <p:spPr>
          <a:xfrm>
            <a:off x="457200" y="22860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inya Nouvelle"/>
              </a:rPr>
              <a:t>Lose Book Checkou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6" descr="j0233771"/>
          <p:cNvPicPr/>
          <p:nvPr/>
        </p:nvPicPr>
        <p:blipFill>
          <a:blip r:embed="rId1"/>
          <a:stretch/>
        </p:blipFill>
        <p:spPr>
          <a:xfrm>
            <a:off x="609480" y="838080"/>
            <a:ext cx="1828800" cy="149544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27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273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281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WordArt 19"/>
          <p:cNvSpPr txBox="1"/>
          <p:nvPr/>
        </p:nvSpPr>
        <p:spPr>
          <a:xfrm>
            <a:off x="2743200" y="762120"/>
            <a:ext cx="5791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Final Tim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380880" y="2438280"/>
            <a:ext cx="8077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inya Nouvelle"/>
              </a:rPr>
              <a:t>Sent Back to Class/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Minya Nouvelle"/>
              </a:rPr>
              <a:t>Office Referr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2" descr="j0232054"/>
          <p:cNvPicPr/>
          <p:nvPr/>
        </p:nvPicPr>
        <p:blipFill>
          <a:blip r:embed="rId1"/>
          <a:stretch/>
        </p:blipFill>
        <p:spPr>
          <a:xfrm>
            <a:off x="1219320" y="762120"/>
            <a:ext cx="1271520" cy="132084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23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293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301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WordArt 19"/>
          <p:cNvSpPr txBox="1"/>
          <p:nvPr/>
        </p:nvSpPr>
        <p:spPr>
          <a:xfrm>
            <a:off x="2666880" y="609480"/>
            <a:ext cx="57913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REWARD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380880" y="2438280"/>
            <a:ext cx="8077320" cy="43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At the end of each 9 week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Book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Penc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Sti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Class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3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4" descr="hw8_youreastar"/>
          <p:cNvPicPr/>
          <p:nvPr/>
        </p:nvPicPr>
        <p:blipFill>
          <a:blip r:embed="rId1"/>
          <a:stretch/>
        </p:blipFill>
        <p:spPr>
          <a:xfrm>
            <a:off x="228600" y="380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1981080" y="91440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inya Nouvelle"/>
              </a:rPr>
              <a:t>Quiet on the Set</a:t>
            </a:r>
            <a:endParaRPr b="0" lang="en-US" sz="1800" spc="1" strike="noStrike">
              <a:ln w="4140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inya Nouvelle"/>
              <a:ea typeface="Minya Nouvelle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23880" y="52578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Bethel Elementary / 2011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1981080" y="2209680"/>
            <a:ext cx="4953240" cy="3022560"/>
          </a:xfrm>
          <a:prstGeom prst="flowChartProcess">
            <a:avLst/>
          </a:prstGeom>
          <a:solidFill>
            <a:srgbClr val="ffffff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362320" y="2133720"/>
            <a:ext cx="457200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Media Center Con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72" name="Rectangle 7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8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9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1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2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3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4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80" name="Rectangle 15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6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7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8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9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0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1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22"/>
          <p:cNvSpPr/>
          <p:nvPr/>
        </p:nvSpPr>
        <p:spPr>
          <a:xfrm>
            <a:off x="7162920" y="914400"/>
            <a:ext cx="1752480" cy="1665360"/>
          </a:xfrm>
          <a:custGeom>
            <a:avLst/>
            <a:gdLst/>
            <a:ahLst/>
            <a:rect l="l" t="t" r="r" b="b"/>
            <a:pathLst>
              <a:path w="1752600" h="1665288">
                <a:moveTo>
                  <a:pt x="2" y="636082"/>
                </a:moveTo>
                <a:lnTo>
                  <a:pt x="669437" y="636086"/>
                </a:lnTo>
                <a:lnTo>
                  <a:pt x="876300" y="0"/>
                </a:lnTo>
                <a:lnTo>
                  <a:pt x="1083163" y="636086"/>
                </a:lnTo>
                <a:lnTo>
                  <a:pt x="1752598" y="636082"/>
                </a:lnTo>
                <a:lnTo>
                  <a:pt x="1211011" y="1029200"/>
                </a:lnTo>
                <a:lnTo>
                  <a:pt x="1417882" y="1665284"/>
                </a:lnTo>
                <a:lnTo>
                  <a:pt x="876300" y="1272158"/>
                </a:lnTo>
                <a:lnTo>
                  <a:pt x="334718" y="1665284"/>
                </a:lnTo>
                <a:lnTo>
                  <a:pt x="541589" y="1029200"/>
                </a:lnTo>
                <a:lnTo>
                  <a:pt x="2" y="636082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3"/>
          <p:cNvSpPr/>
          <p:nvPr/>
        </p:nvSpPr>
        <p:spPr>
          <a:xfrm>
            <a:off x="152280" y="914400"/>
            <a:ext cx="1752840" cy="1665360"/>
          </a:xfrm>
          <a:custGeom>
            <a:avLst/>
            <a:gdLst/>
            <a:ahLst/>
            <a:rect l="l" t="t" r="r" b="b"/>
            <a:pathLst>
              <a:path w="1752600" h="1665288">
                <a:moveTo>
                  <a:pt x="2" y="636082"/>
                </a:moveTo>
                <a:lnTo>
                  <a:pt x="669437" y="636086"/>
                </a:lnTo>
                <a:lnTo>
                  <a:pt x="876300" y="0"/>
                </a:lnTo>
                <a:lnTo>
                  <a:pt x="1083163" y="636086"/>
                </a:lnTo>
                <a:lnTo>
                  <a:pt x="1752598" y="636082"/>
                </a:lnTo>
                <a:lnTo>
                  <a:pt x="1211011" y="1029200"/>
                </a:lnTo>
                <a:lnTo>
                  <a:pt x="1417882" y="1665284"/>
                </a:lnTo>
                <a:lnTo>
                  <a:pt x="876300" y="1272158"/>
                </a:lnTo>
                <a:lnTo>
                  <a:pt x="334718" y="1665284"/>
                </a:lnTo>
                <a:lnTo>
                  <a:pt x="541589" y="1029200"/>
                </a:lnTo>
                <a:lnTo>
                  <a:pt x="2" y="636082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4"/>
          <p:cNvGrpSpPr/>
          <p:nvPr/>
        </p:nvGrpSpPr>
        <p:grpSpPr>
          <a:xfrm>
            <a:off x="-205920" y="2363400"/>
            <a:ext cx="2953080" cy="3121200"/>
            <a:chOff x="-205920" y="2363400"/>
            <a:chExt cx="2953080" cy="3121200"/>
          </a:xfrm>
        </p:grpSpPr>
        <p:pic>
          <p:nvPicPr>
            <p:cNvPr id="90" name="Picture 25" descr="MCEN00973_0000[1]"/>
            <p:cNvPicPr/>
            <p:nvPr/>
          </p:nvPicPr>
          <p:blipFill>
            <a:blip r:embed="rId1"/>
            <a:stretch/>
          </p:blipFill>
          <p:spPr>
            <a:xfrm rot="20418000">
              <a:off x="152280" y="2666520"/>
              <a:ext cx="223632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WordArt 26"/>
            <p:cNvSpPr txBox="1"/>
            <p:nvPr/>
          </p:nvSpPr>
          <p:spPr>
            <a:xfrm rot="20357400">
              <a:off x="676440" y="4236840"/>
              <a:ext cx="1837440" cy="73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cc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STAR </a:t>
              </a:r>
              <a:endPara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cc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STUDENTS</a:t>
              </a:r>
              <a:endPara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92" name="Picture 27" descr="MCj02346050000[1]"/>
          <p:cNvPicPr/>
          <p:nvPr/>
        </p:nvPicPr>
        <p:blipFill>
          <a:blip r:embed="rId2"/>
          <a:stretch/>
        </p:blipFill>
        <p:spPr>
          <a:xfrm>
            <a:off x="7162920" y="2895480"/>
            <a:ext cx="179208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94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102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WordArt 23"/>
          <p:cNvSpPr txBox="1"/>
          <p:nvPr/>
        </p:nvSpPr>
        <p:spPr>
          <a:xfrm>
            <a:off x="2590920" y="533520"/>
            <a:ext cx="6095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Rule 1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380880" y="236232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nya Nouvelle"/>
              </a:rPr>
              <a:t>Keep Hands to Yoursel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7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8" descr="hw8_boy1"/>
          <p:cNvPicPr/>
          <p:nvPr/>
        </p:nvPicPr>
        <p:blipFill>
          <a:blip r:embed="rId1"/>
          <a:stretch/>
        </p:blipFill>
        <p:spPr>
          <a:xfrm>
            <a:off x="0" y="0"/>
            <a:ext cx="1224000" cy="25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114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122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WordArt 19"/>
          <p:cNvSpPr txBox="1"/>
          <p:nvPr/>
        </p:nvSpPr>
        <p:spPr>
          <a:xfrm>
            <a:off x="2590920" y="609480"/>
            <a:ext cx="6095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Rule 2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380880" y="2362320"/>
            <a:ext cx="853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nya Nouvelle"/>
              </a:rPr>
              <a:t>Eyes on the Reader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3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hw8_girl7"/>
          <p:cNvPicPr/>
          <p:nvPr/>
        </p:nvPicPr>
        <p:blipFill>
          <a:blip r:embed="rId1"/>
          <a:stretch/>
        </p:blipFill>
        <p:spPr>
          <a:xfrm>
            <a:off x="457200" y="762120"/>
            <a:ext cx="1649520" cy="2438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134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142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WordArt 19"/>
          <p:cNvSpPr txBox="1"/>
          <p:nvPr/>
        </p:nvSpPr>
        <p:spPr>
          <a:xfrm>
            <a:off x="2895480" y="533520"/>
            <a:ext cx="54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Rule 3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380880" y="236232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nya Nouvelle"/>
              </a:rPr>
              <a:t>Keep Feet Stil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3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4" descr="hw8_boy12"/>
          <p:cNvPicPr/>
          <p:nvPr/>
        </p:nvPicPr>
        <p:blipFill>
          <a:blip r:embed="rId1"/>
          <a:stretch/>
        </p:blipFill>
        <p:spPr>
          <a:xfrm>
            <a:off x="228600" y="990720"/>
            <a:ext cx="1495440" cy="215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154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162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WordArt 19"/>
          <p:cNvSpPr txBox="1"/>
          <p:nvPr/>
        </p:nvSpPr>
        <p:spPr>
          <a:xfrm>
            <a:off x="2971800" y="533520"/>
            <a:ext cx="54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Rule 4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380880" y="259092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nya Nouvelle"/>
              </a:rPr>
              <a:t>Ears Listening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3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4" descr="hw8_girl9"/>
          <p:cNvPicPr/>
          <p:nvPr/>
        </p:nvPicPr>
        <p:blipFill>
          <a:blip r:embed="rId1"/>
          <a:stretch/>
        </p:blipFill>
        <p:spPr>
          <a:xfrm>
            <a:off x="228600" y="304920"/>
            <a:ext cx="1495440" cy="2209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174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182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WordArt 19"/>
          <p:cNvSpPr txBox="1"/>
          <p:nvPr/>
        </p:nvSpPr>
        <p:spPr>
          <a:xfrm>
            <a:off x="2971800" y="533520"/>
            <a:ext cx="54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Rule 5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380880" y="22096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nya Nouvelle"/>
              </a:rPr>
              <a:t>Mouths Quie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3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4" descr="hw8_girl13"/>
          <p:cNvPicPr/>
          <p:nvPr/>
        </p:nvPicPr>
        <p:blipFill>
          <a:blip r:embed="rId1"/>
          <a:stretch/>
        </p:blipFill>
        <p:spPr>
          <a:xfrm>
            <a:off x="228600" y="457200"/>
            <a:ext cx="1247760" cy="1952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194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202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WordArt 19"/>
          <p:cNvSpPr txBox="1"/>
          <p:nvPr/>
        </p:nvSpPr>
        <p:spPr>
          <a:xfrm>
            <a:off x="2666880" y="3808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Read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380880" y="1447920"/>
            <a:ext cx="876312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inya Nouvelle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espect the library materia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nya Nouvelle"/>
              </a:rPr>
              <a:t>so we’ll have more to us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inya Nouvelle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verything has a correct plac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nya Nouvelle"/>
              </a:rPr>
              <a:t>(so we’ll be able to find what we ne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inya Nouvelle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lways shar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nya Nouvelle"/>
              </a:rPr>
              <a:t>(so we’ll return things when they are d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inya Nouvelle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on’t disturb others working in the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3"/>
          <p:cNvSpPr/>
          <p:nvPr/>
        </p:nvSpPr>
        <p:spPr>
          <a:xfrm rot="20373000">
            <a:off x="8153280" y="5916240"/>
            <a:ext cx="990720" cy="941400"/>
          </a:xfrm>
          <a:custGeom>
            <a:avLst/>
            <a:gdLst/>
            <a:ahLst/>
            <a:rect l="l" t="t" r="r" b="b"/>
            <a:pathLst>
              <a:path w="990600" h="941387">
                <a:moveTo>
                  <a:pt x="1" y="359577"/>
                </a:moveTo>
                <a:lnTo>
                  <a:pt x="378378" y="359579"/>
                </a:lnTo>
                <a:lnTo>
                  <a:pt x="495300" y="0"/>
                </a:lnTo>
                <a:lnTo>
                  <a:pt x="612222" y="359579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5"/>
                </a:lnTo>
                <a:lnTo>
                  <a:pt x="495300" y="719151"/>
                </a:lnTo>
                <a:lnTo>
                  <a:pt x="189188" y="941385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213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221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WordArt 19"/>
          <p:cNvSpPr txBox="1"/>
          <p:nvPr/>
        </p:nvSpPr>
        <p:spPr>
          <a:xfrm>
            <a:off x="2895480" y="533520"/>
            <a:ext cx="54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1ST tIM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380880" y="26668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inya Nouvelle"/>
              </a:rPr>
              <a:t>Verbal Warning</a:t>
            </a: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3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4" descr="hw8_kids3"/>
          <p:cNvPicPr/>
          <p:nvPr/>
        </p:nvPicPr>
        <p:blipFill>
          <a:blip r:embed="rId1"/>
          <a:stretch/>
        </p:blipFill>
        <p:spPr>
          <a:xfrm>
            <a:off x="0" y="533520"/>
            <a:ext cx="2028960" cy="21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19:59:07Z</dcterms:created>
  <dc:creator>Amanda Madden</dc:creator>
  <dc:description/>
  <dc:language>en-US</dc:language>
  <cp:lastModifiedBy>Windows User</cp:lastModifiedBy>
  <dcterms:modified xsi:type="dcterms:W3CDTF">2012-03-15T00:42:20Z</dcterms:modified>
  <cp:revision>14</cp:revision>
  <dc:subject/>
  <dc:title>Slide 1</dc:title>
</cp:coreProperties>
</file>